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F9A-B630-490E-B5EF-1400AFEB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5C8-C2C1-42E9-8DE7-61DE1D2C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144-F51D-4EFE-A5A5-0A204D76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D9C-20D4-4EEF-B6DE-E936CC33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3D5B-1EC9-4143-8155-CE09F89A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1346-EDAC-428F-9C1E-0F4DD2B4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3D07-886F-451B-8A2D-25C4100A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2AFF-7C49-45DA-843B-4486628A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DF31-EACD-41C3-8D65-E7D9B3CB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256B-6223-444F-AC94-F5E2C02F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D802-2BB6-4041-ABEE-E2B17028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369-6147-4CA0-B811-9C542C9D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355D-553E-46F6-8A31-42C8D16F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EDBA-9E0E-4331-9BE7-A3FF03AC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64FF-7074-4CB6-A86B-F3139967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1F2F-71C0-422B-8BEC-4014695A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34F8-5A45-4ABC-AE8B-A2C6435F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693-D2D3-4487-AD5D-01C091EA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49F-67CC-47E8-8491-CD7ACD28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340-758F-4091-B0AF-A5933177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60E-481D-4C00-9F28-97EBA6F3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300-2A49-4EBF-B5CF-2E93EEF0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FFA-470C-433E-9062-1A13F441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A6A-2F93-49F3-B441-F0BFE23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8459-606F-44A9-951C-4F0C938EBC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B565-8A6A-4837-B5B2-8FEC8D7CF4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915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Arial Black"/>
              </a:rPr>
              <a:t>ЛИЧНАЯ ГИГИЕН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41428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ОУ «Лицей № 6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34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должна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жилищ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ще должно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рошо освещенным солнечным с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жно проветрив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осле таких советов, думаю что вы всегда будете здоровыми, чистыми и опрятным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онятие гигие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324000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а в переводе с греческого – целебный, приносящи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2177916_f520"/>
          <p:cNvPicPr/>
          <p:nvPr/>
        </p:nvPicPr>
        <p:blipFill>
          <a:blip r:embed="rId1"/>
          <a:stretch/>
        </p:blipFill>
        <p:spPr>
          <a:xfrm>
            <a:off x="4356000" y="1557360"/>
            <a:ext cx="460872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%d0%93%d0%b8%d0%b3%d0%b8%d0%b5%d0%bd%d0%b0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кож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кожи ежедневно следует принимать душ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тье - основной вид ухода за кожей, при котором с ее поверхности удаляются пыль, микробы, пот, различные загряз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i"/>
          <p:cNvPicPr/>
          <p:nvPr/>
        </p:nvPicPr>
        <p:blipFill>
          <a:blip r:embed="rId1"/>
          <a:stretch/>
        </p:blipFill>
        <p:spPr>
          <a:xfrm>
            <a:off x="5192640" y="2398680"/>
            <a:ext cx="3640320" cy="26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ьза ба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parnaya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x_d3ab18d4"/>
          <p:cNvPicPr/>
          <p:nvPr/>
        </p:nvPicPr>
        <p:blipFill>
          <a:blip r:embed="rId2"/>
          <a:stretch/>
        </p:blipFill>
        <p:spPr>
          <a:xfrm>
            <a:off x="4932360" y="148428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_113"/>
          <p:cNvPicPr/>
          <p:nvPr/>
        </p:nvPicPr>
        <p:blipFill>
          <a:blip r:embed="rId3"/>
          <a:stretch/>
        </p:blipFill>
        <p:spPr>
          <a:xfrm>
            <a:off x="5219640" y="4076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 забудьте и о зуб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5" descr="0_705d6_a7bd8d8f_orig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одеж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17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а соответствовать времени года, характеру работы, не затруднять движения и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Рисунок1"/>
          <p:cNvPicPr/>
          <p:nvPr/>
        </p:nvPicPr>
        <p:blipFill>
          <a:blip r:embed="rId1"/>
          <a:stretch/>
        </p:blipFill>
        <p:spPr>
          <a:xfrm>
            <a:off x="4643280" y="1268280"/>
            <a:ext cx="4032360" cy="254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post-1291457207"/>
          <p:cNvPicPr/>
          <p:nvPr/>
        </p:nvPicPr>
        <p:blipFill>
          <a:blip r:embed="rId2"/>
          <a:stretch/>
        </p:blipFill>
        <p:spPr>
          <a:xfrm>
            <a:off x="5148360" y="393372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авильное хранение продуктов приводит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х порче, 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аких продуктов может вызвать пищевые отравления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ружающей нас среде находится множество микроорганизмов, которые п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приятных условиях быстро размножаются. Некоторые 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х способны вырабатывать сильные яды (токсины).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м микроорганизмам относятся плесневые грибы, дрожжи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цион должен быт разнообразны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8:53:30Z</dcterms:created>
  <dc:creator>user</dc:creator>
  <dc:description/>
  <dc:language>en-US</dc:language>
  <cp:lastModifiedBy>Учитель</cp:lastModifiedBy>
  <dcterms:modified xsi:type="dcterms:W3CDTF">2013-05-06T16:48:15Z</dcterms:modified>
  <cp:revision>4</cp:revision>
  <dc:subject/>
  <dc:title>ЛИЧНАЯ ГИГИЕНА</dc:title>
</cp:coreProperties>
</file>